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56.wmf" ContentType="image/x-wmf"/>
  <Override PartName="/ppt/media/image49.jpeg" ContentType="image/jpeg"/>
  <Override PartName="/ppt/media/image45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59.jpeg" ContentType="image/jpeg"/>
  <Override PartName="/ppt/media/image37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.wmf" ContentType="image/x-wmf"/>
  <Override PartName="/ppt/media/image20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23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21.wmf" ContentType="image/x-wmf"/>
  <Override PartName="/ppt/media/image60.jpeg" ContentType="image/jpeg"/>
  <Override PartName="/ppt/media/image70.wmf" ContentType="image/x-wmf"/>
  <Override PartName="/ppt/media/image28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24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10.wmf" ContentType="image/x-wmf"/>
  <Override PartName="/ppt/media/image83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47.jpeg" ContentType="image/jpeg"/>
  <Override PartName="/ppt/media/image90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66DF-E290-4A2C-84F2-319E43DFF8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84E1-74DE-42D6-AC70-205C198A5A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88E3-79A5-4199-BB71-9845F7238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943-8484-4B54-B5C5-F2A3BE1E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6D6-FD26-4D40-9209-B973A0BE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A3A-3DD1-4906-ABC6-E979BEB5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777-D3FC-4AA7-8792-D74B8F8A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EBAC0-E974-43E8-B5A8-1BC8194A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75BE8-47EA-409C-8B09-BF0B4959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9B96A-3BFA-423E-9489-EF9C0A05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8B09D-AEE4-41D2-9954-5C5D6212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99858-5633-4018-85D0-10B75321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082F0-5E30-4C0B-8A66-E594C763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62A4C-535C-41E7-979F-44187083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E13-73D8-4D51-8EA6-DC4FC425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8B93B-BBF5-4A6D-91D4-2E9B6810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A9E29-0194-4280-B88C-CC3A987D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42D01-1C4C-44BA-81C1-BE4A5972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9BD3A-CCD2-4B1E-8B32-85E515D4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32585-791D-4EBB-B2FD-A8DEF69B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599-F1D7-4833-9AF8-E9840D8B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8AB-4424-4B24-8EF5-B80508DB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C17-3DE8-41EC-96DF-B4FB73A1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317-0EE5-420B-A3EE-43E362D3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811-ADF4-45AA-8C29-FDEA7C5D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D5F-6DD0-4194-B4B7-D45A69FF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899-A031-411E-9C36-F76EA0F6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E855-C745-4E32-ADA4-C6AB525CE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161F-EC94-4EDB-96A0-A7571AA5E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7.wmf"/><Relationship Id="rId1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6.wmf"/><Relationship Id="rId27" Type="http://schemas.openxmlformats.org/officeDocument/2006/relationships/image" Target="../media/image37.png"/><Relationship Id="rId28" Type="http://schemas.openxmlformats.org/officeDocument/2006/relationships/image" Target="../media/image37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38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39.wmf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image" Target="../media/image47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71280" y="2428920"/>
            <a:ext cx="77058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ироян Мария Альберт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кафедры прикладно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"/>
              </a:rPr>
              <a:t>Лекция по дисциплине «Математ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3964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правляющими углам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а        называются углы между ним и координатными ос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6. Косинусы направляющих углов называются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правляющими косинусами вектор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. Проекции вектора         на координатные 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ются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ординатами вектора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обозначаются, соответственно,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любого вектора       верно равенство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единичные векторы, сонаправленные с соответствующей ос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Объект 3"/>
          <p:cNvGraphicFramePr/>
          <p:nvPr/>
        </p:nvGraphicFramePr>
        <p:xfrm>
          <a:off x="6588000" y="189000"/>
          <a:ext cx="255600" cy="4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89000"/>
                    <a:ext cx="2556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Объект 4"/>
          <p:cNvGraphicFramePr/>
          <p:nvPr/>
        </p:nvGraphicFramePr>
        <p:xfrm>
          <a:off x="1920960" y="1071720"/>
          <a:ext cx="5248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0960" y="1071720"/>
                    <a:ext cx="5248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Объект 5"/>
          <p:cNvGraphicFramePr/>
          <p:nvPr/>
        </p:nvGraphicFramePr>
        <p:xfrm>
          <a:off x="738360" y="2781360"/>
          <a:ext cx="801036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360" y="2781360"/>
                    <a:ext cx="80103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Объект 7"/>
          <p:cNvGraphicFramePr/>
          <p:nvPr/>
        </p:nvGraphicFramePr>
        <p:xfrm>
          <a:off x="4067280" y="3573360"/>
          <a:ext cx="28404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3573360"/>
                    <a:ext cx="284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Объект 8"/>
          <p:cNvGraphicFramePr/>
          <p:nvPr/>
        </p:nvGraphicFramePr>
        <p:xfrm>
          <a:off x="1042920" y="4005360"/>
          <a:ext cx="153360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4005360"/>
                    <a:ext cx="15336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Объект 9"/>
          <p:cNvGraphicFramePr/>
          <p:nvPr/>
        </p:nvGraphicFramePr>
        <p:xfrm>
          <a:off x="5292720" y="4437000"/>
          <a:ext cx="1249200" cy="5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Объект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4437000"/>
                    <a:ext cx="12492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Объект 10"/>
          <p:cNvGraphicFramePr/>
          <p:nvPr/>
        </p:nvGraphicFramePr>
        <p:xfrm>
          <a:off x="6372360" y="4797360"/>
          <a:ext cx="28404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Объект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4797360"/>
                    <a:ext cx="284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Объект 11"/>
          <p:cNvGraphicFramePr/>
          <p:nvPr/>
        </p:nvGraphicFramePr>
        <p:xfrm>
          <a:off x="2556000" y="5229360"/>
          <a:ext cx="2725560" cy="58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Объект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56000" y="5229360"/>
                    <a:ext cx="27255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Объект 13"/>
          <p:cNvGraphicFramePr/>
          <p:nvPr/>
        </p:nvGraphicFramePr>
        <p:xfrm>
          <a:off x="896760" y="5616720"/>
          <a:ext cx="938520" cy="52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5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96760" y="5616720"/>
                    <a:ext cx="9385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HP\Desktop\фото (1)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500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072040" y="2428920"/>
                <a:ext cx="1014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7786800" y="2786040"/>
                <a:ext cx="1187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7786800" y="1600200"/>
                <a:ext cx="1136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191440" y="1959120"/>
                <a:ext cx="8812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715000" y="928800"/>
                <a:ext cx="8841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6143760" y="2071800"/>
                <a:ext cx="287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6572160" y="2928960"/>
                <a:ext cx="3510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7358040" y="2286000"/>
                <a:ext cx="3351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6929280" y="1608120"/>
                <a:ext cx="219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47" name="Объект 11"/>
          <p:cNvGraphicFramePr/>
          <p:nvPr/>
        </p:nvGraphicFramePr>
        <p:xfrm>
          <a:off x="3143160" y="3786120"/>
          <a:ext cx="27259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Объект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3786120"/>
                    <a:ext cx="2725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Объект 4"/>
          <p:cNvGraphicFramePr/>
          <p:nvPr/>
        </p:nvGraphicFramePr>
        <p:xfrm>
          <a:off x="3571920" y="4714920"/>
          <a:ext cx="210168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4714920"/>
                    <a:ext cx="21016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55480" y="271440"/>
            <a:ext cx="8280720" cy="62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       также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любого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рны  равен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3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У равных векторов равны соответствующие координ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4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 коллинеарных векторов координаты пропорциональны: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Объект 3"/>
          <p:cNvGraphicFramePr/>
          <p:nvPr/>
        </p:nvGraphicFramePr>
        <p:xfrm>
          <a:off x="1835280" y="260280"/>
          <a:ext cx="2556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0280"/>
                    <a:ext cx="2556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Объект 4"/>
          <p:cNvGraphicFramePr/>
          <p:nvPr/>
        </p:nvGraphicFramePr>
        <p:xfrm>
          <a:off x="5665680" y="127080"/>
          <a:ext cx="21020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65680" y="127080"/>
                    <a:ext cx="21020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AutoShape 39"/>
          <p:cNvSpPr/>
          <p:nvPr/>
        </p:nvSpPr>
        <p:spPr>
          <a:xfrm>
            <a:off x="4606920" y="-601560"/>
            <a:ext cx="942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0"/>
          <p:cNvSpPr/>
          <p:nvPr/>
        </p:nvSpPr>
        <p:spPr>
          <a:xfrm>
            <a:off x="336600" y="-326880"/>
            <a:ext cx="685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1"/>
          <p:cNvSpPr/>
          <p:nvPr/>
        </p:nvSpPr>
        <p:spPr>
          <a:xfrm>
            <a:off x="555480" y="-326880"/>
            <a:ext cx="6955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2"/>
          <p:cNvSpPr/>
          <p:nvPr/>
        </p:nvSpPr>
        <p:spPr>
          <a:xfrm>
            <a:off x="743040" y="-326880"/>
            <a:ext cx="676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4"/>
          <p:cNvSpPr/>
          <p:nvPr/>
        </p:nvSpPr>
        <p:spPr>
          <a:xfrm>
            <a:off x="3008160" y="3151080"/>
            <a:ext cx="210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Объект 12"/>
          <p:cNvGraphicFramePr/>
          <p:nvPr/>
        </p:nvGraphicFramePr>
        <p:xfrm>
          <a:off x="1006560" y="1123920"/>
          <a:ext cx="266868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6560" y="1123920"/>
                    <a:ext cx="26686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Объект 13"/>
          <p:cNvGraphicFramePr/>
          <p:nvPr/>
        </p:nvGraphicFramePr>
        <p:xfrm>
          <a:off x="1763640" y="1655640"/>
          <a:ext cx="4834080" cy="162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Объект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1655640"/>
                    <a:ext cx="48340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Объект 14"/>
          <p:cNvGraphicFramePr/>
          <p:nvPr/>
        </p:nvGraphicFramePr>
        <p:xfrm>
          <a:off x="2673360" y="4076640"/>
          <a:ext cx="3976560" cy="61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3360" y="4076640"/>
                    <a:ext cx="39765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Объект 15"/>
          <p:cNvGraphicFramePr/>
          <p:nvPr/>
        </p:nvGraphicFramePr>
        <p:xfrm>
          <a:off x="2828880" y="5303880"/>
          <a:ext cx="3286080" cy="107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5303880"/>
                    <a:ext cx="32860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5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ина вектора                          через координаты определяется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известны координаты точек                      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Объект 4"/>
          <p:cNvGraphicFramePr/>
          <p:nvPr/>
        </p:nvGraphicFramePr>
        <p:xfrm>
          <a:off x="5462640" y="115920"/>
          <a:ext cx="20462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2640" y="115920"/>
                    <a:ext cx="2046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Объект 6"/>
          <p:cNvGraphicFramePr/>
          <p:nvPr/>
        </p:nvGraphicFramePr>
        <p:xfrm>
          <a:off x="2646360" y="1285920"/>
          <a:ext cx="258588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6360" y="1285920"/>
                    <a:ext cx="25858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Объект 7"/>
          <p:cNvGraphicFramePr/>
          <p:nvPr/>
        </p:nvGraphicFramePr>
        <p:xfrm>
          <a:off x="5535720" y="2216160"/>
          <a:ext cx="21384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35720" y="2216160"/>
                    <a:ext cx="2138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Объект 8"/>
          <p:cNvGraphicFramePr/>
          <p:nvPr/>
        </p:nvGraphicFramePr>
        <p:xfrm>
          <a:off x="504720" y="2792520"/>
          <a:ext cx="217332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4720" y="2792520"/>
                    <a:ext cx="21733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Объект 9"/>
          <p:cNvGraphicFramePr/>
          <p:nvPr/>
        </p:nvGraphicFramePr>
        <p:xfrm>
          <a:off x="3203640" y="2878200"/>
          <a:ext cx="5797440" cy="69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2878200"/>
                    <a:ext cx="57974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Объект 10"/>
          <p:cNvGraphicFramePr/>
          <p:nvPr/>
        </p:nvGraphicFramePr>
        <p:xfrm>
          <a:off x="1778040" y="3986280"/>
          <a:ext cx="5626080" cy="66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78040" y="3986280"/>
                    <a:ext cx="56260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ПЕРАЦИИ НАД ВЕКТ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ожение:   Координаты суммы двух векторов равны сумме соответствующих координат слагаемых векторов.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) Вычит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5"/>
          <p:cNvCxnSpPr/>
          <p:nvPr/>
        </p:nvCxnSpPr>
        <p:spPr>
          <a:xfrm flipV="1">
            <a:off x="1763280" y="1988640"/>
            <a:ext cx="1513800" cy="9360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93" name="Прямая со стрелкой 6"/>
          <p:cNvCxnSpPr/>
          <p:nvPr/>
        </p:nvCxnSpPr>
        <p:spPr>
          <a:xfrm>
            <a:off x="1763280" y="2924280"/>
            <a:ext cx="1360800" cy="5688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94" name="Прямая соединительная линия 9"/>
          <p:cNvSpPr/>
          <p:nvPr/>
        </p:nvSpPr>
        <p:spPr>
          <a:xfrm>
            <a:off x="3276720" y="1989000"/>
            <a:ext cx="1366560" cy="468360"/>
          </a:xfrm>
          <a:prstGeom prst="line">
            <a:avLst/>
          </a:prstGeom>
          <a:ln w="93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11"/>
          <p:cNvSpPr/>
          <p:nvPr/>
        </p:nvSpPr>
        <p:spPr>
          <a:xfrm flipV="1">
            <a:off x="3124080" y="2457000"/>
            <a:ext cx="1519200" cy="1035000"/>
          </a:xfrm>
          <a:prstGeom prst="line">
            <a:avLst/>
          </a:prstGeom>
          <a:ln w="190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12"/>
          <p:cNvCxnSpPr/>
          <p:nvPr/>
        </p:nvCxnSpPr>
        <p:spPr>
          <a:xfrm flipV="1">
            <a:off x="1915920" y="2456640"/>
            <a:ext cx="2727720" cy="467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graphicFrame>
        <p:nvGraphicFramePr>
          <p:cNvPr id="297" name="Объект 15"/>
          <p:cNvGraphicFramePr/>
          <p:nvPr/>
        </p:nvGraphicFramePr>
        <p:xfrm>
          <a:off x="2050920" y="1971720"/>
          <a:ext cx="28440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Объект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71720"/>
                    <a:ext cx="284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Объект 16"/>
          <p:cNvGraphicFramePr/>
          <p:nvPr/>
        </p:nvGraphicFramePr>
        <p:xfrm>
          <a:off x="2286000" y="3208320"/>
          <a:ext cx="3160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Объект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08320"/>
                    <a:ext cx="316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Объект 1"/>
          <p:cNvGraphicFramePr/>
          <p:nvPr/>
        </p:nvGraphicFramePr>
        <p:xfrm>
          <a:off x="3411360" y="1982880"/>
          <a:ext cx="79560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Объект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1360" y="1982880"/>
                    <a:ext cx="7956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03" name="Прямая со стрелкой 13"/>
          <p:cNvCxnSpPr/>
          <p:nvPr/>
        </p:nvCxnSpPr>
        <p:spPr>
          <a:xfrm flipV="1">
            <a:off x="3203640" y="4075920"/>
            <a:ext cx="1513440" cy="935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Прямая со стрелкой 14"/>
          <p:cNvCxnSpPr/>
          <p:nvPr/>
        </p:nvCxnSpPr>
        <p:spPr>
          <a:xfrm>
            <a:off x="3203640" y="5022720"/>
            <a:ext cx="1800720" cy="2782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5" name="Прямая со стрелкой 15"/>
          <p:cNvCxnSpPr/>
          <p:nvPr/>
        </p:nvCxnSpPr>
        <p:spPr>
          <a:xfrm flipH="1" flipV="1">
            <a:off x="4714560" y="4071240"/>
            <a:ext cx="286560" cy="12150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graphicFrame>
        <p:nvGraphicFramePr>
          <p:cNvPr id="306" name="Объект 4"/>
          <p:cNvGraphicFramePr/>
          <p:nvPr/>
        </p:nvGraphicFramePr>
        <p:xfrm>
          <a:off x="3726000" y="3933720"/>
          <a:ext cx="31572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26000" y="3933720"/>
                    <a:ext cx="315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Объект 7"/>
          <p:cNvGraphicFramePr/>
          <p:nvPr/>
        </p:nvGraphicFramePr>
        <p:xfrm>
          <a:off x="3492360" y="5151600"/>
          <a:ext cx="284400" cy="47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360" y="5151600"/>
                    <a:ext cx="284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Объект 8"/>
          <p:cNvGraphicFramePr/>
          <p:nvPr/>
        </p:nvGraphicFramePr>
        <p:xfrm>
          <a:off x="4970520" y="4222800"/>
          <a:ext cx="76680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70520" y="4222800"/>
                    <a:ext cx="766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2" name="Object 18"/>
              <p:cNvSpPr txBox="1"/>
              <p:nvPr/>
            </p:nvSpPr>
            <p:spPr>
              <a:xfrm>
                <a:off x="4643280" y="2643120"/>
                <a:ext cx="39006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0"/>
              <p:cNvSpPr txBox="1"/>
              <p:nvPr/>
            </p:nvSpPr>
            <p:spPr>
              <a:xfrm>
                <a:off x="4714920" y="5643720"/>
                <a:ext cx="3900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3) Умножение вектора на скаля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22268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) Скалярное произведение двух в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О п р е д е л е н и е.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калярным произведением двух векторов                         называется </a:t>
            </a:r>
            <a:r>
              <a:rPr b="0" i="1" lang="ru-RU" sz="2400" spc="-1" strike="noStrike">
                <a:solidFill>
                  <a:srgbClr val="222268"/>
                </a:solidFill>
                <a:latin typeface="Arial"/>
              </a:rPr>
              <a:t>число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обозначае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вычисляемое по формуле                  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где            угол между векторами      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Если известны координаты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Объект 4"/>
          <p:cNvGraphicFramePr/>
          <p:nvPr/>
        </p:nvGraphicFramePr>
        <p:xfrm>
          <a:off x="5364000" y="189000"/>
          <a:ext cx="3160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89000"/>
                    <a:ext cx="3160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Объект 5"/>
          <p:cNvGraphicFramePr/>
          <p:nvPr/>
        </p:nvGraphicFramePr>
        <p:xfrm>
          <a:off x="2266920" y="907920"/>
          <a:ext cx="29005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907920"/>
                    <a:ext cx="2900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Объект 6"/>
          <p:cNvGraphicFramePr/>
          <p:nvPr/>
        </p:nvGraphicFramePr>
        <p:xfrm>
          <a:off x="2124000" y="2637000"/>
          <a:ext cx="137808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637000"/>
                    <a:ext cx="1378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Объект 8"/>
          <p:cNvGraphicFramePr/>
          <p:nvPr/>
        </p:nvGraphicFramePr>
        <p:xfrm>
          <a:off x="539640" y="3141720"/>
          <a:ext cx="113688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3141720"/>
                    <a:ext cx="11368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Объект 9"/>
          <p:cNvGraphicFramePr/>
          <p:nvPr/>
        </p:nvGraphicFramePr>
        <p:xfrm>
          <a:off x="5724360" y="3141720"/>
          <a:ext cx="277812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4360" y="3141720"/>
                    <a:ext cx="27781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Объект 10"/>
          <p:cNvGraphicFramePr/>
          <p:nvPr/>
        </p:nvGraphicFramePr>
        <p:xfrm>
          <a:off x="1258920" y="3933720"/>
          <a:ext cx="55404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6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8920" y="3933720"/>
                    <a:ext cx="554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Объект 11"/>
          <p:cNvGraphicFramePr/>
          <p:nvPr/>
        </p:nvGraphicFramePr>
        <p:xfrm>
          <a:off x="5435640" y="3789360"/>
          <a:ext cx="1378080" cy="57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8" name="Объект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35640" y="3789360"/>
                    <a:ext cx="13780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Объект 12"/>
          <p:cNvGraphicFramePr/>
          <p:nvPr/>
        </p:nvGraphicFramePr>
        <p:xfrm>
          <a:off x="684360" y="4724280"/>
          <a:ext cx="4748040" cy="60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Объект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4360" y="4724280"/>
                    <a:ext cx="47480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Объект 13"/>
          <p:cNvGraphicFramePr/>
          <p:nvPr/>
        </p:nvGraphicFramePr>
        <p:xfrm>
          <a:off x="755640" y="5300640"/>
          <a:ext cx="4443480" cy="72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2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5640" y="5300640"/>
                    <a:ext cx="44434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войства скалярного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507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Объект 4"/>
          <p:cNvGraphicFramePr/>
          <p:nvPr/>
        </p:nvGraphicFramePr>
        <p:xfrm>
          <a:off x="1332000" y="1197000"/>
          <a:ext cx="204948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20494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Объект 5"/>
          <p:cNvGraphicFramePr/>
          <p:nvPr/>
        </p:nvGraphicFramePr>
        <p:xfrm>
          <a:off x="1474920" y="2276640"/>
          <a:ext cx="356688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2276640"/>
                    <a:ext cx="35668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Объект 6"/>
          <p:cNvGraphicFramePr/>
          <p:nvPr/>
        </p:nvGraphicFramePr>
        <p:xfrm>
          <a:off x="1474920" y="3429000"/>
          <a:ext cx="345276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4920" y="3429000"/>
                    <a:ext cx="34527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Объект 7"/>
          <p:cNvGraphicFramePr/>
          <p:nvPr/>
        </p:nvGraphicFramePr>
        <p:xfrm>
          <a:off x="1619280" y="4292640"/>
          <a:ext cx="194472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292640"/>
                    <a:ext cx="19447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Объект 8"/>
          <p:cNvGraphicFramePr/>
          <p:nvPr/>
        </p:nvGraphicFramePr>
        <p:xfrm>
          <a:off x="1692360" y="5516640"/>
          <a:ext cx="1730160" cy="11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4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5516640"/>
                    <a:ext cx="1730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Box 8"/>
          <p:cNvSpPr/>
          <p:nvPr/>
        </p:nvSpPr>
        <p:spPr>
          <a:xfrm>
            <a:off x="4929120" y="47149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между двумя векто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4357800" y="4813200"/>
                <a:ext cx="5079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653760" y="157176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аны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3143160" y="1500120"/>
                <a:ext cx="4027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TextBox 8"/>
          <p:cNvSpPr/>
          <p:nvPr/>
        </p:nvSpPr>
        <p:spPr>
          <a:xfrm>
            <a:off x="719640" y="25002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т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1928880" y="3214800"/>
                <a:ext cx="6124680" cy="28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каляр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а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  <m:r>
                              <m:t xml:space="preserve">;</m:t>
                            </m:r>
                          </m:e>
                        </m:acc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калярн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извед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сторам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3143160" y="1500120"/>
                <a:ext cx="4027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2920" y="107172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определ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ем длины векторов        и        .    По формуле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ый квадрат равен квадрату модуля вектора, т.е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357280" y="1643040"/>
                <a:ext cx="49086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429080" y="2357280"/>
                <a:ext cx="335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7" name="Объект 6"/>
          <p:cNvGraphicFramePr/>
          <p:nvPr/>
        </p:nvGraphicFramePr>
        <p:xfrm>
          <a:off x="1000080" y="3000240"/>
          <a:ext cx="258624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000240"/>
                    <a:ext cx="25862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214280" y="3929040"/>
                <a:ext cx="6878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8"/>
              <p:cNvSpPr txBox="1"/>
              <p:nvPr/>
            </p:nvSpPr>
            <p:spPr>
              <a:xfrm>
                <a:off x="5286240" y="2357280"/>
                <a:ext cx="360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836880" y="5643720"/>
                <a:ext cx="20923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6840" y="357120"/>
            <a:ext cx="8472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242280" indent="-242280">
              <a:spcBef>
                <a:spcPts val="601"/>
              </a:spcBef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гол между векторами                      определяется равенств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куд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071800" y="857160"/>
                <a:ext cx="47401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4500720" y="2000160"/>
                <a:ext cx="1101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5"/>
              <p:cNvSpPr txBox="1"/>
              <p:nvPr/>
            </p:nvSpPr>
            <p:spPr>
              <a:xfrm>
                <a:off x="2714760" y="3071880"/>
                <a:ext cx="37303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2933640" y="4776840"/>
                <a:ext cx="3006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95280" y="825480"/>
            <a:ext cx="83534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“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Весь этот мир держится исключительно  на математике,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 сказал Роб Кук, ушедший на пенсию вице-президент 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Pixar 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и автор многих важных программ, используемых при создании трехмерной графики.- Что бы вы в нем ни делали, все описывается математическими действиями. И если все сделано правильно, то никто об этом не догадывается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50920" y="404640"/>
            <a:ext cx="878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создания трехмерной анимации требуется не только разбираться в программном обеспечении, но и быть знатоком физики с математикой. Только обладая совокупностью этих  познаний, можно соз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алистический виртуальный м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едставьте себе локоть. Когда он гнется, рука, предплечье, запястье двигаются ,  а мышцы сжимаются и разжимаются – и все это можно описать при помощи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 работе над трехмерной анимацией или графикой компьютерной игры тригонометрия помогает за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ращение и движение, алгебра используется  при создании спецэффектов, а интегральное исчисление помогает создать реалистичное осв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тив Джо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331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екартовы прямоугольные координаты на плоскости и в простран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екторы. Операции над вект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калярное произведение дву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войства скалярного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Декартовы прямоугольные координаты на плоскости и в пространств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Система ко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Определение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ямая, служащая для изображения действительных чисел, в которой выбрана начальная точ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, единица измерения и положительное направление,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исловой прямой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числовой осью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чка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М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й прямой характеризуется определенным числом –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ординатой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Объект 3"/>
          <p:cNvGraphicFramePr/>
          <p:nvPr/>
        </p:nvGraphicFramePr>
        <p:xfrm>
          <a:off x="3044880" y="4491000"/>
          <a:ext cx="28404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4880" y="4491000"/>
                    <a:ext cx="284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Объект 4"/>
          <p:cNvGraphicFramePr/>
          <p:nvPr/>
        </p:nvGraphicFramePr>
        <p:xfrm>
          <a:off x="3995640" y="4424400"/>
          <a:ext cx="9367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424400"/>
                    <a:ext cx="936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0" name="Прямая со стрелкой 6"/>
          <p:cNvCxnSpPr/>
          <p:nvPr/>
        </p:nvCxnSpPr>
        <p:spPr>
          <a:xfrm>
            <a:off x="1474560" y="5949720"/>
            <a:ext cx="5545800" cy="1080"/>
          </a:xfrm>
          <a:prstGeom prst="straightConnector1">
            <a:avLst/>
          </a:prstGeom>
          <a:ln w="9360">
            <a:solidFill>
              <a:srgbClr val="222268"/>
            </a:solidFill>
            <a:miter/>
            <a:tailEnd len="med" type="triangle" w="med"/>
          </a:ln>
        </p:spPr>
      </p:cxnSp>
      <p:graphicFrame>
        <p:nvGraphicFramePr>
          <p:cNvPr id="101" name="Объект 7"/>
          <p:cNvGraphicFramePr/>
          <p:nvPr/>
        </p:nvGraphicFramePr>
        <p:xfrm>
          <a:off x="2411280" y="5300640"/>
          <a:ext cx="210024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5300640"/>
                    <a:ext cx="21002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Объект 8"/>
          <p:cNvGraphicFramePr/>
          <p:nvPr/>
        </p:nvGraphicFramePr>
        <p:xfrm>
          <a:off x="3276720" y="5084640"/>
          <a:ext cx="284040" cy="3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5084640"/>
                    <a:ext cx="284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Объект 9"/>
          <p:cNvGraphicFramePr/>
          <p:nvPr/>
        </p:nvGraphicFramePr>
        <p:xfrm>
          <a:off x="6735600" y="5516640"/>
          <a:ext cx="28440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5600" y="5516640"/>
                    <a:ext cx="28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Объект 11"/>
          <p:cNvGraphicFramePr/>
          <p:nvPr/>
        </p:nvGraphicFramePr>
        <p:xfrm>
          <a:off x="2411280" y="5810400"/>
          <a:ext cx="25560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Объект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1280" y="5810400"/>
                    <a:ext cx="255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Объект 12"/>
          <p:cNvGraphicFramePr/>
          <p:nvPr/>
        </p:nvGraphicFramePr>
        <p:xfrm>
          <a:off x="4260960" y="5808600"/>
          <a:ext cx="257040" cy="27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Объект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0960" y="5808600"/>
                    <a:ext cx="2570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-3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ве взаимно перпендикулярные оси                       , имеющие общее начало      и одинаковую единицу масштаба, образуют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угольную (или декартовую) систему координат на плоскости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сь         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ью абсцисс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а ось         -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ью ордина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точка     -началом координат и плоскость             - координатной плоскостью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Объект 3"/>
          <p:cNvGraphicFramePr/>
          <p:nvPr/>
        </p:nvGraphicFramePr>
        <p:xfrm>
          <a:off x="4486320" y="452520"/>
          <a:ext cx="17287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6320" y="452520"/>
                    <a:ext cx="1728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Объект 4"/>
          <p:cNvGraphicFramePr/>
          <p:nvPr/>
        </p:nvGraphicFramePr>
        <p:xfrm>
          <a:off x="3059280" y="857160"/>
          <a:ext cx="345960" cy="4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85716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5"/>
          <p:cNvGraphicFramePr/>
          <p:nvPr/>
        </p:nvGraphicFramePr>
        <p:xfrm>
          <a:off x="1619280" y="2011320"/>
          <a:ext cx="51912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011320"/>
                    <a:ext cx="5191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Объект 6"/>
          <p:cNvGraphicFramePr/>
          <p:nvPr/>
        </p:nvGraphicFramePr>
        <p:xfrm>
          <a:off x="7669080" y="2000160"/>
          <a:ext cx="519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9080" y="2000160"/>
                    <a:ext cx="519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Объект 8"/>
          <p:cNvGraphicFramePr/>
          <p:nvPr/>
        </p:nvGraphicFramePr>
        <p:xfrm>
          <a:off x="2484360" y="2786040"/>
          <a:ext cx="66348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2786040"/>
                    <a:ext cx="66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2" name="Прямая со стрелкой 10"/>
          <p:cNvCxnSpPr/>
          <p:nvPr/>
        </p:nvCxnSpPr>
        <p:spPr>
          <a:xfrm flipH="1" flipV="1">
            <a:off x="6803280" y="3284640"/>
            <a:ext cx="37080" cy="24498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stealth" w="med"/>
          </a:ln>
        </p:spPr>
      </p:cxnSp>
      <p:cxnSp>
        <p:nvCxnSpPr>
          <p:cNvPr id="123" name="Прямая со стрелкой 14"/>
          <p:cNvCxnSpPr/>
          <p:nvPr/>
        </p:nvCxnSpPr>
        <p:spPr>
          <a:xfrm>
            <a:off x="6227280" y="5265360"/>
            <a:ext cx="2521800" cy="1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24" name="Объект 16"/>
          <p:cNvGraphicFramePr/>
          <p:nvPr/>
        </p:nvGraphicFramePr>
        <p:xfrm>
          <a:off x="6458040" y="5219640"/>
          <a:ext cx="345960" cy="4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58040" y="521964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17"/>
          <p:cNvGraphicFramePr/>
          <p:nvPr/>
        </p:nvGraphicFramePr>
        <p:xfrm>
          <a:off x="8440560" y="5265720"/>
          <a:ext cx="308160" cy="33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Объект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440560" y="5265720"/>
                    <a:ext cx="3081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18"/>
          <p:cNvGraphicFramePr/>
          <p:nvPr/>
        </p:nvGraphicFramePr>
        <p:xfrm>
          <a:off x="6539040" y="3141720"/>
          <a:ext cx="338040" cy="399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39040" y="3141720"/>
                    <a:ext cx="338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Объект 19"/>
          <p:cNvGraphicFramePr/>
          <p:nvPr/>
        </p:nvGraphicFramePr>
        <p:xfrm>
          <a:off x="6300720" y="3641760"/>
          <a:ext cx="914400" cy="1658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Объект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3641760"/>
                    <a:ext cx="9144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Объект 20"/>
          <p:cNvGraphicFramePr/>
          <p:nvPr/>
        </p:nvGraphicFramePr>
        <p:xfrm>
          <a:off x="6732720" y="4767120"/>
          <a:ext cx="1439640" cy="924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" name="Объект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32720" y="4767120"/>
                    <a:ext cx="143964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Box 25"/>
          <p:cNvSpPr/>
          <p:nvPr/>
        </p:nvSpPr>
        <p:spPr>
          <a:xfrm>
            <a:off x="539640" y="3357720"/>
            <a:ext cx="578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ждой точке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э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лоскости соответствует пара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называемых ее координа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                       называется абсциссой,     - называется ординатой точки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Объект 27"/>
          <p:cNvGraphicFramePr/>
          <p:nvPr/>
        </p:nvGraphicFramePr>
        <p:xfrm>
          <a:off x="596880" y="4076640"/>
          <a:ext cx="784080" cy="539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6" name="Объект 2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6880" y="4076640"/>
                    <a:ext cx="784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Объект 28"/>
          <p:cNvGraphicFramePr/>
          <p:nvPr/>
        </p:nvGraphicFramePr>
        <p:xfrm>
          <a:off x="1236600" y="4508640"/>
          <a:ext cx="1152720" cy="433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8" name="Объект 2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36600" y="4508640"/>
                    <a:ext cx="11527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29"/>
          <p:cNvGraphicFramePr/>
          <p:nvPr/>
        </p:nvGraphicFramePr>
        <p:xfrm>
          <a:off x="8055000" y="3284640"/>
          <a:ext cx="1054080" cy="534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0" name="Объект 2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055000" y="3284640"/>
                    <a:ext cx="1054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Объект 30"/>
          <p:cNvGraphicFramePr/>
          <p:nvPr/>
        </p:nvGraphicFramePr>
        <p:xfrm>
          <a:off x="4643280" y="2428920"/>
          <a:ext cx="346320" cy="41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2" name="Объект 3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3280" y="2428920"/>
                    <a:ext cx="346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Объект 31"/>
          <p:cNvGraphicFramePr/>
          <p:nvPr/>
        </p:nvGraphicFramePr>
        <p:xfrm>
          <a:off x="2411280" y="4581360"/>
          <a:ext cx="584280" cy="338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4" name="Объект 3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11280" y="4581360"/>
                    <a:ext cx="58428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33"/>
          <p:cNvGraphicFramePr/>
          <p:nvPr/>
        </p:nvGraphicFramePr>
        <p:xfrm>
          <a:off x="2340000" y="4883040"/>
          <a:ext cx="282600" cy="363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6" name="Объект 3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40000" y="4883040"/>
                    <a:ext cx="282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Прямая соединительная линия 37"/>
          <p:cNvSpPr/>
          <p:nvPr/>
        </p:nvSpPr>
        <p:spPr>
          <a:xfrm>
            <a:off x="6840360" y="3716280"/>
            <a:ext cx="1260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9"/>
          <p:cNvSpPr/>
          <p:nvPr/>
        </p:nvSpPr>
        <p:spPr>
          <a:xfrm>
            <a:off x="8101080" y="3716280"/>
            <a:ext cx="0" cy="1549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95280" y="1886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3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ри взаимно перпендикулярные оси                         , имеющие общее начало      и одинаковую единицу масштаба, образуют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угольную (или декартовую) систему координат в пространстве                  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сь       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зывается осью апплик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юбая точка                    характеризуется трой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исел, называемых ее координа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       называется абсциссой,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азывается ординато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ппликатой точки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Объект 3"/>
          <p:cNvGraphicFramePr/>
          <p:nvPr/>
        </p:nvGraphicFramePr>
        <p:xfrm>
          <a:off x="4429080" y="692280"/>
          <a:ext cx="25351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692280"/>
                    <a:ext cx="2535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Объект 4"/>
          <p:cNvGraphicFramePr/>
          <p:nvPr/>
        </p:nvGraphicFramePr>
        <p:xfrm>
          <a:off x="3132000" y="1052640"/>
          <a:ext cx="34632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052640"/>
                    <a:ext cx="346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Объект 5"/>
          <p:cNvGraphicFramePr/>
          <p:nvPr/>
        </p:nvGraphicFramePr>
        <p:xfrm>
          <a:off x="1692360" y="2205000"/>
          <a:ext cx="49032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205000"/>
                    <a:ext cx="490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6" name="Прямая со стрелкой 10"/>
          <p:cNvCxnSpPr/>
          <p:nvPr/>
        </p:nvCxnSpPr>
        <p:spPr>
          <a:xfrm flipV="1">
            <a:off x="6156000" y="3428640"/>
            <a:ext cx="1080" cy="151344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stealth" w="med"/>
          </a:ln>
        </p:spPr>
      </p:cxnSp>
      <p:cxnSp>
        <p:nvCxnSpPr>
          <p:cNvPr id="157" name="Прямая со стрелкой 14"/>
          <p:cNvCxnSpPr/>
          <p:nvPr/>
        </p:nvCxnSpPr>
        <p:spPr>
          <a:xfrm>
            <a:off x="6156360" y="4941360"/>
            <a:ext cx="2358000" cy="1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58" name="Объект 16"/>
          <p:cNvGraphicFramePr/>
          <p:nvPr/>
        </p:nvGraphicFramePr>
        <p:xfrm>
          <a:off x="6156360" y="4902120"/>
          <a:ext cx="345960" cy="41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Объект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490212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Объект 17"/>
          <p:cNvGraphicFramePr/>
          <p:nvPr/>
        </p:nvGraphicFramePr>
        <p:xfrm>
          <a:off x="8728200" y="5396040"/>
          <a:ext cx="307800" cy="3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Объект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728200" y="5396040"/>
                    <a:ext cx="3078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Объект 18"/>
          <p:cNvGraphicFramePr/>
          <p:nvPr/>
        </p:nvGraphicFramePr>
        <p:xfrm>
          <a:off x="5884920" y="3422520"/>
          <a:ext cx="338040" cy="40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84920" y="3422520"/>
                    <a:ext cx="33804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Объект 19"/>
          <p:cNvGraphicFramePr/>
          <p:nvPr/>
        </p:nvGraphicFramePr>
        <p:xfrm>
          <a:off x="5643720" y="3571920"/>
          <a:ext cx="639720" cy="14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43720" y="3571920"/>
                    <a:ext cx="63972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Объект 1"/>
          <p:cNvGraphicFramePr/>
          <p:nvPr/>
        </p:nvGraphicFramePr>
        <p:xfrm>
          <a:off x="7016760" y="1773360"/>
          <a:ext cx="808200" cy="47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Объект 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6760" y="1773360"/>
                    <a:ext cx="808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Объект 11"/>
          <p:cNvGraphicFramePr/>
          <p:nvPr/>
        </p:nvGraphicFramePr>
        <p:xfrm>
          <a:off x="2782800" y="2592360"/>
          <a:ext cx="1501920" cy="47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82800" y="2592360"/>
                    <a:ext cx="1501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Объект 12"/>
          <p:cNvGraphicFramePr/>
          <p:nvPr/>
        </p:nvGraphicFramePr>
        <p:xfrm>
          <a:off x="1474920" y="3573360"/>
          <a:ext cx="583920" cy="33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" name="Объект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74920" y="3573360"/>
                    <a:ext cx="5839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Объект 13"/>
          <p:cNvGraphicFramePr/>
          <p:nvPr/>
        </p:nvGraphicFramePr>
        <p:xfrm>
          <a:off x="971640" y="4002120"/>
          <a:ext cx="282600" cy="36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3" name="Объект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71640" y="4002120"/>
                    <a:ext cx="282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Объект 15"/>
          <p:cNvGraphicFramePr/>
          <p:nvPr/>
        </p:nvGraphicFramePr>
        <p:xfrm>
          <a:off x="900000" y="4459320"/>
          <a:ext cx="595440" cy="360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5" name="Объект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00000" y="4459320"/>
                    <a:ext cx="595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6" name="Прямая со стрелкой 25"/>
          <p:cNvCxnSpPr/>
          <p:nvPr/>
        </p:nvCxnSpPr>
        <p:spPr>
          <a:xfrm flipH="1">
            <a:off x="5471640" y="4902120"/>
            <a:ext cx="721440" cy="11167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77" name="Левая фигурная скобка 34"/>
          <p:cNvSpPr/>
          <p:nvPr/>
        </p:nvSpPr>
        <p:spPr>
          <a:xfrm rot="1917000">
            <a:off x="5601960" y="4782960"/>
            <a:ext cx="284040" cy="1103400"/>
          </a:xfrm>
          <a:custGeom>
            <a:avLst/>
            <a:gdLst>
              <a:gd name="textAreaLeft" fmla="*/ 181440 w 284040"/>
              <a:gd name="textAreaRight" fmla="*/ 284040 w 284040"/>
              <a:gd name="textAreaTop" fmla="*/ 7200 h 1103400"/>
              <a:gd name="textAreaBottom" fmla="*/ 1096200 h 110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Объект 35"/>
          <p:cNvGraphicFramePr/>
          <p:nvPr/>
        </p:nvGraphicFramePr>
        <p:xfrm>
          <a:off x="5491080" y="4929120"/>
          <a:ext cx="308160" cy="338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9" name="Объект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91080" y="4929120"/>
                    <a:ext cx="3081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Прямая соединительная линия 37"/>
          <p:cNvSpPr/>
          <p:nvPr/>
        </p:nvSpPr>
        <p:spPr>
          <a:xfrm>
            <a:off x="6192720" y="3701880"/>
            <a:ext cx="82728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2" descr=""/>
          <p:cNvPicPr/>
          <p:nvPr/>
        </p:nvPicPr>
        <p:blipFill>
          <a:blip r:embed="rId27"/>
          <a:stretch/>
        </p:blipFill>
        <p:spPr>
          <a:xfrm>
            <a:off x="6910560" y="3689280"/>
            <a:ext cx="218880" cy="126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82" name="Picture 32" descr=""/>
          <p:cNvPicPr/>
          <p:nvPr/>
        </p:nvPicPr>
        <p:blipFill>
          <a:blip r:embed="rId28"/>
          <a:stretch/>
        </p:blipFill>
        <p:spPr>
          <a:xfrm>
            <a:off x="7450200" y="3500280"/>
            <a:ext cx="218880" cy="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Объект 46"/>
          <p:cNvGraphicFramePr/>
          <p:nvPr/>
        </p:nvGraphicFramePr>
        <p:xfrm>
          <a:off x="6966000" y="3117960"/>
          <a:ext cx="1404720" cy="79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4" name="Объект 4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966000" y="3117960"/>
                    <a:ext cx="140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Прямая соединительная линия 48"/>
          <p:cNvSpPr/>
          <p:nvPr/>
        </p:nvSpPr>
        <p:spPr>
          <a:xfrm flipV="1">
            <a:off x="5616720" y="5872320"/>
            <a:ext cx="1566720" cy="1080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52"/>
          <p:cNvSpPr/>
          <p:nvPr/>
        </p:nvSpPr>
        <p:spPr>
          <a:xfrm flipV="1">
            <a:off x="7129440" y="4941360"/>
            <a:ext cx="611280" cy="93060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57"/>
          <p:cNvSpPr/>
          <p:nvPr/>
        </p:nvSpPr>
        <p:spPr>
          <a:xfrm>
            <a:off x="7093080" y="3689280"/>
            <a:ext cx="33120" cy="21830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Объект 47138"/>
          <p:cNvGraphicFramePr/>
          <p:nvPr/>
        </p:nvGraphicFramePr>
        <p:xfrm>
          <a:off x="6084720" y="4437000"/>
          <a:ext cx="1787760" cy="935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9" name="Объект 471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84720" y="4437000"/>
                    <a:ext cx="17877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42560" y="189000"/>
            <a:ext cx="7705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 П Р Е Д Е Л Е Н И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екторо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называется направленный  отрезок с началом в точк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и концом в точк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линой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(или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модуле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 вектора         называется длина отрезка </a:t>
            </a:r>
            <a:r>
              <a:rPr b="0" i="1" lang="ru-RU" sz="2400" spc="-1" strike="noStrike">
                <a:solidFill>
                  <a:srgbClr val="0d0d0d"/>
                </a:solidFill>
                <a:latin typeface="Arial"/>
              </a:rPr>
              <a:t>А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Используется обозначение: 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ва вектора и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вн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они имеют одинаковые длины, лежат на параллельных прямых (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ллинеарны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 и направлены в одну сторону (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онаправлены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оекцией вектора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 ось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ются число, обозначаемое       , вычисляемое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Объект 1"/>
          <p:cNvGraphicFramePr/>
          <p:nvPr/>
        </p:nvGraphicFramePr>
        <p:xfrm>
          <a:off x="3564000" y="549360"/>
          <a:ext cx="5112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549360"/>
                    <a:ext cx="511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Объект 2"/>
          <p:cNvGraphicFramePr/>
          <p:nvPr/>
        </p:nvGraphicFramePr>
        <p:xfrm>
          <a:off x="6877080" y="1413000"/>
          <a:ext cx="51120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1413000"/>
                    <a:ext cx="511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Объект 3"/>
          <p:cNvGraphicFramePr/>
          <p:nvPr/>
        </p:nvGraphicFramePr>
        <p:xfrm>
          <a:off x="3132000" y="2133720"/>
          <a:ext cx="61452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133720"/>
                    <a:ext cx="6145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Объект 4"/>
          <p:cNvGraphicFramePr/>
          <p:nvPr/>
        </p:nvGraphicFramePr>
        <p:xfrm>
          <a:off x="4716360" y="4076640"/>
          <a:ext cx="255600" cy="45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4076640"/>
                    <a:ext cx="2556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Объект 5"/>
          <p:cNvGraphicFramePr/>
          <p:nvPr/>
        </p:nvGraphicFramePr>
        <p:xfrm>
          <a:off x="6300720" y="4149720"/>
          <a:ext cx="48600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Объект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4149720"/>
                    <a:ext cx="486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Объект 6"/>
          <p:cNvGraphicFramePr/>
          <p:nvPr/>
        </p:nvGraphicFramePr>
        <p:xfrm>
          <a:off x="4807080" y="4437000"/>
          <a:ext cx="7729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Объект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7080" y="4437000"/>
                    <a:ext cx="772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Объект 7"/>
          <p:cNvGraphicFramePr/>
          <p:nvPr/>
        </p:nvGraphicFramePr>
        <p:xfrm>
          <a:off x="1584360" y="5286240"/>
          <a:ext cx="2844720" cy="75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4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84360" y="5286240"/>
                    <a:ext cx="28447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Picture 2" descr=""/>
          <p:cNvPicPr/>
          <p:nvPr/>
        </p:nvPicPr>
        <p:blipFill>
          <a:blip r:embed="rId15"/>
          <a:stretch/>
        </p:blipFill>
        <p:spPr>
          <a:xfrm>
            <a:off x="4786200" y="5072040"/>
            <a:ext cx="364356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1280" y="4285800"/>
            <a:ext cx="87868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пределение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Если начало и конец вектора совпадают, например             , то такой вектор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улевым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и обозначается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ина нулевого вектора равна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786040" y="5000760"/>
                <a:ext cx="482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071800" y="4643280"/>
                <a:ext cx="892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13" name="Picture 2" descr="C:\Users\HP\Desktop\фото (2)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714240" y="2685960"/>
                <a:ext cx="2173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acc>
                      </m:sub>
                    </m:sSub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5" name="Picture 2" descr="C:\Users\HP\Desktop\фото (3)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6970680" y="2714760"/>
                <a:ext cx="21733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acc>
                      </m:sub>
                    </m:sSub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9:29:58Z</dcterms:created>
  <dc:creator>Admin</dc:creator>
  <dc:description/>
  <dc:language>en-US</dc:language>
  <cp:lastModifiedBy>JADU</cp:lastModifiedBy>
  <dcterms:modified xsi:type="dcterms:W3CDTF">2014-09-14T15:55:07Z</dcterms:modified>
  <cp:revision>212</cp:revision>
  <dc:subject/>
  <dc:title>Лекция 1</dc:title>
</cp:coreProperties>
</file>